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5DCA-3993-461C-95CD-2E088E4E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335-D6E1-406C-A730-F364E9CC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523-3354-495D-ACDD-8A4BF1BF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6D6-A4E6-46D1-BCFB-7B0EFA60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711-E6F1-4CF7-B13F-DC105404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818-75E2-42FB-AAD8-8C4189B1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6B1-8AE9-499F-A754-F72B5E0C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2F6-6357-4BE3-8A92-0CB01B71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254-A34D-42C7-BB93-45998BC9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A0E-8304-4708-B13C-885B09C8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F16-90D8-4FFD-807B-B595115E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9ED-B83C-401A-95BF-C01C0C1F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6B7C-8AE1-4D1C-A00F-153DC2A25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760840" y="3750480"/>
            <a:ext cx="3660480" cy="1590840"/>
          </a:xfrm>
          <a:custGeom>
            <a:avLst/>
            <a:gdLst>
              <a:gd name="textAreaLeft" fmla="*/ 804960 w 3660480"/>
              <a:gd name="textAreaRight" fmla="*/ 2855520 w 3660480"/>
              <a:gd name="textAreaTop" fmla="*/ 349560 h 1590840"/>
              <a:gd name="textAreaBottom" fmla="*/ 1241280 h 159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70200" y="2119320"/>
            <a:ext cx="1841760" cy="159228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25720" y="4208400"/>
            <a:ext cx="1528920" cy="676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1800" y="4208400"/>
            <a:ext cx="1528560" cy="676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1800" y="4208400"/>
            <a:ext cx="1528560" cy="676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25720" y="2576520"/>
            <a:ext cx="1528920" cy="67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71800" y="2576520"/>
            <a:ext cx="1528560" cy="67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1800" y="2576520"/>
            <a:ext cx="1528560" cy="67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09:00:05Z</dcterms:created>
  <dc:creator>Takeshima Shinichirou</dc:creator>
  <dc:description/>
  <dc:language>en-US</dc:language>
  <cp:lastModifiedBy>Takeshima Shinichirou</cp:lastModifiedBy>
  <dcterms:modified xsi:type="dcterms:W3CDTF">2002-02-05T07:57:21Z</dcterms:modified>
  <cp:revision>11</cp:revision>
  <dc:subject/>
  <dc:title>新規</dc:title>
</cp:coreProperties>
</file>